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689-9654-4E70-A379-773C83A3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748B-2980-4AB4-9068-D8D0D16E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61DE-F5B4-4D77-8092-69F4ABDD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08AE-6643-477E-9E18-B0A03529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39D3-6891-49C3-A4E5-9C3ABDFB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FF70-A3FA-48BA-A579-ECE6F332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6F25-DCCD-4F8C-8F74-0336466E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6543-C5B5-4801-94F4-78E47D8D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192B-E2DB-4D15-A720-156C6111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59C7-64D9-4201-9F8E-6F285B09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9C65-B821-42F9-ABCB-CE98B0F4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465-90AD-4782-9A60-F00641B7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23CE-6BF3-4E1C-8EF4-7CD9AC4E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A7F7-982C-43FA-AF9D-55B26E72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8C17-C94C-41E4-BAEF-B95078E5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4115-8ECA-4FAF-9E62-514B6EEB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7D40-3757-49A9-A67D-8D99769F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A904-D08E-4BCE-8CFC-C4E0A719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E86-5F46-4AAF-BFAB-252CF278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D14F-8EF4-45CB-8082-0F7704AA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B5B7-3E67-4F17-A9EE-BF86D2AE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031-9698-462B-B4BA-FAC6B15F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968-D5C5-48F1-B5B8-4C7E36AA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D806-2FC7-4104-9E58-728764B0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C69C-699F-4E61-A252-4C9266D54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0CE3-7A02-457B-B4EC-4DDBE75FE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991080" y="152280"/>
            <a:ext cx="5867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Sensor Unit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6858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21304"/>
                </a:solidFill>
                <a:latin typeface="Times New Roman"/>
              </a:rPr>
              <a:t>Robotics with Mr. Rue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Let’s Have a Great Year!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971800" y="1905120"/>
            <a:ext cx="3747960" cy="374796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Verdana"/>
              </a:rPr>
              <a:t>Unit Challenge Summary:</a:t>
            </a:r>
            <a:endParaRPr b="0" lang="en-US" sz="36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99840" y="1980720"/>
            <a:ext cx="6375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challenge includes obstacles which forces students to use sensors in order to get to t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area. The robot must first begin at the starting area, touch the wall, follow a line, get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alibration area using the Sonar, Touch, or Light sensor, and finally getting to the go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221304"/>
                </a:solidFill>
                <a:latin typeface="Verdana"/>
              </a:rPr>
              <a:t>Essential Question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52480" y="2133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Is technology the answe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038480" y="3124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095880" y="31240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Verdana"/>
                <a:ea typeface="Times New Roman"/>
              </a:rPr>
              <a:t>Unit Questions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295280"/>
            <a:ext cx="746748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What roles do robots play in socie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How can robots be used to solve today’s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886200"/>
            <a:ext cx="7391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What does the TouchSensor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What does the LightSensor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How does the SonarSensor work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33526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Verdana"/>
                <a:ea typeface="Times New Roman"/>
              </a:rPr>
              <a:t>Conten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1304"/>
                </a:solidFill>
                <a:latin typeface="Verdana"/>
              </a:rPr>
              <a:t>Benefits of Using Project Approaches, Ongoing Assessment, and CFQs in My Unit</a:t>
            </a:r>
            <a:endParaRPr b="0" lang="en-US" sz="2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use their writing skills to create and maintain an Engineering Noteboo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ir Engineering Notebooks are evaluated by a panel of jud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work in groups utilizing each others strength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learn writing and thinking skills while they are working on the proj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oughout the project they give and receive feedback on their 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1304"/>
                </a:solidFill>
                <a:latin typeface="Verdana"/>
              </a:rPr>
              <a:t>By Using Project Approaches,  Ongoing Assessment, and CFQs</a:t>
            </a:r>
            <a:endParaRPr b="0" lang="en-US" sz="28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y Students Wil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rn how to document engineering problems and solu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rn to work cooperatively with teamma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the functionality of each task and unit challen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Verdana"/>
              </a:rPr>
              <a:t>Gauging Student Needs Assessment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162920" y="990720"/>
          <a:ext cx="1295280" cy="113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990720"/>
                    <a:ext cx="129528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295280" y="19810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5410080"/>
            <a:ext cx="68580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93800" indent="-336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1981080"/>
            <a:ext cx="7467480" cy="37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will use my Essential and Unit Ques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d out what assumptions students have about the reach of technology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ther information on higher-order thinking and 2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ntury skill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evaluating the Design and Planning elements of their rob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monitoring their ability to work cooperatively and problem-solv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Verdana"/>
              </a:rPr>
              <a:t>Gauging Student Needs Assessment</a:t>
            </a:r>
            <a:endParaRPr b="0" lang="en-US" sz="32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19810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1676520"/>
            <a:ext cx="701028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 will learn from the assess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51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or-knowledge of basic engineering concepts and skills, and RobotC programm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51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conceptions about technology and its appl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3676680"/>
            <a:ext cx="6629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my students will gain from the assess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nd teacher feedb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opportunity to modify go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Verdana"/>
              </a:rPr>
              <a:t>My Goals</a:t>
            </a:r>
            <a:endParaRPr b="0" lang="en-US" sz="36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real-world applications to Robotic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ess higher-order thinking, particularly problem-solving skill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ve students do Robotic presentations at local elementary and middle schools, and to the communit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20:00:55Z</dcterms:created>
  <dc:creator>Harrisville</dc:creator>
  <dc:description/>
  <dc:language>en-US</dc:language>
  <cp:lastModifiedBy>RoboCoach</cp:lastModifiedBy>
  <dcterms:modified xsi:type="dcterms:W3CDTF">2010-08-05T17:15:33Z</dcterms:modified>
  <cp:revision>41</cp:revision>
  <dc:subject/>
  <dc:title>PowerPoint Presentation</dc:title>
</cp:coreProperties>
</file>